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BA6-8084-4198-A015-025E0DB5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22E-8763-44C0-9D00-FFB5BB3B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3A6-FA06-4FCA-A554-B6963DD9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4BB-CEAC-4660-AFF9-C61D84E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8351-E0C6-41BE-B58E-5DA6A990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89B-9B22-483F-8B23-2F3A46D0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5C9-BCA6-4033-B7FD-0AA8FD67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DA54-88D7-4200-BD47-20BDD6D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B2C-DFD9-432C-8F1F-5987E2E5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D3B-17FC-4758-B918-470EF40E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42AF-AAD7-4D19-95D8-560E398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EC3-140A-485C-8537-0BDE666E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ED8-E744-476B-A5BF-3616BA5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EECB-963A-455B-B63C-488E4DE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07AC-19AE-4BDB-96F8-B859115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47C-939C-4FDA-9605-044EC545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957-D9C2-409D-9246-A4F74CDA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5FC97-EB2C-4217-A009-E5CE0DC5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C1DF-E9D3-4D9C-9E6A-CADE51E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EF5D-B3F0-4A1E-B769-AB083480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DBD8-56A7-4377-A082-E98DB2B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FBDD-B9B2-4078-BCB4-638093D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88C-F657-4C63-BE4A-3BEDB50A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77C7-E78F-4D6F-959F-7FC9AB5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239B-E575-4AAF-98BB-5F79621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793A-4BB7-4550-A654-A4CCC0D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C8E77-DA91-474F-8FDE-8FB17AA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BA02-E5FF-40C9-B506-62C22D9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A2FD-6F9B-4BA4-B7EF-86D6D459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1E37-D3C7-4F6A-9A27-E7C84693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4B3F-1604-4843-B3D1-F31CE0BD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828B-47EE-4128-83E1-7F65FDC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296B-D7DB-4BC0-9C4B-58CE8E8A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8EA-6BE9-47F2-BF0C-719F87D3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15F9-F739-45BD-BA4C-0E3438AE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B733-DE7C-4733-A775-9D63949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4C6A-6CE6-4ACB-ADE7-FC5E922C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2A3D-1363-4D45-938A-7740AE0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E540-B4E0-4431-86B0-99B9B66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2CE4-06C2-4C31-8BF3-6D4DD15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A0BE-A950-424A-82BC-306F603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5206-3A2E-464B-B439-EE4A96B0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C1FC-68B4-4634-9640-7F60C0F9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325D-D22A-4DDF-9EA8-85E8CD4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F2C-6723-4B46-A5C8-16004F4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76A6C-A680-4B39-80F8-789B66D2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5693-B0DA-4E40-9936-A6F3CFAF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5368-DCB8-4DBF-8724-6F65C02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103E-99FB-4914-9CF0-ACF48A2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1A926-344F-4690-BC8C-DFA9516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C8CB-7A48-40C0-B3E1-DBEB1DF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FEFD7-4FDF-4D41-8567-40F99A4A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2A209-DE37-464D-A01F-4A646FD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201F-9152-458A-83AC-8279FA0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2FD2-9EAB-40C6-AAB0-6404C0F6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AA5-7900-46A5-8E98-54641492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3B20-8216-45B1-A37F-E3E71E5E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37D-E382-441F-8DCD-6FCA359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104-9315-4DF6-9BAF-8FEF2F0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B77-9278-4945-A8C3-8F3B9374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BEFA-56C5-4615-852E-E5D5CC04BC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F584-03B3-4EE9-8CD5-5879B86C5C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DB0-1552-4624-98D1-AB865EDE0E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FF4-0667-4311-9596-C6115E9391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AFA-847E-4283-BAEE-8C5935FC3E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900" spc="-1" strike="noStrike">
                <a:solidFill>
                  <a:srgbClr val="d2533c"/>
                </a:solidFill>
                <a:latin typeface="Arial"/>
              </a:rPr>
              <a:t>TTCN-3 CONFORMANCE TEST SUITE STF 409 STATUS REPORT</a:t>
            </a:r>
            <a:endParaRPr b="0" lang="en-US" sz="4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7576e"/>
                </a:solidFill>
                <a:latin typeface="Arial"/>
              </a:rPr>
              <a:t>Benjamin Zei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7576e"/>
                </a:solidFill>
                <a:latin typeface="Arial"/>
              </a:rPr>
              <a:t>University of Götting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Issues reported to STF393 (2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785: STF409 question on [Part 1: TTCN-3 Core Language / Section 6.3.2 ]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785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feedback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791: STF409 question on [Part 1: TTCN-3 Core Language / Section B.1.2.3 ]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791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resolv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789: STF409 question on [Part 1: TTCN-3 Core Language / Section 8.2.3.6 ]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789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resolv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803: STF409 comment on [Part 1: TTCN-3 Core Language / Section 19.11 ]: ad-hoc restriction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803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resolv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Issues reported to STF393 (3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795: STF409 question on [Part 1: TTCN-3 Core Language / Section 16.1.4 ]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795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resolv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786: STF409 question on [Part 1: TTCN-3 Core Language / Section 6.3.4 ]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786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resolv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513: resolution of CR5092 contains bogus examples for charstring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513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fixed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809: CL chapter 15.11 Concatenating templates of string and list types is not supported by BNF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809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new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- CR5845: BNF does not allow identificator after keyword pattern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ttp://t-ort.etsi.org/view.php?id=5845 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93a299"/>
                </a:solidFill>
                <a:latin typeface="Arial"/>
              </a:rPr>
              <a:t>(current status: new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92934"/>
                </a:solidFill>
                <a:latin typeface="Arial"/>
              </a:rPr>
              <a:t>Wrap up work will be finished before Xmas, probably final draft this week or next week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92934"/>
                </a:solidFill>
                <a:latin typeface="Arial"/>
              </a:rPr>
              <a:t>Special thanks (no order): Andrus(Elvior), David(MTP), Nikolay(ISPRAS), Stephan(Conformiq), Sebastian(ETSI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Session p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Work still ongo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Issues reported to STF39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Session pla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October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2 weeks at ETSI in Sophia-Antipol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November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2 weeks coordinated sess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December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2 more days for Bogda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The scheduled STF409 sessions are over now!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Current status (1/4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Drafts are availab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ICS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TSS&amp;TP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ATS&amp;IXIT docu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ATS attach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Attached as contributions to the MTS meeting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Drafts are not yet final…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Current status (2/4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92934"/>
                </a:solidFill>
                <a:latin typeface="Arial"/>
              </a:rPr>
              <a:t>Time spent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2 weeks for each test case develop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2 weeks and lots of additional voluntary time (outside the contract) fo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Validation with tools (TTWorkbench + Testcast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Development of tooling for documentation and test execution for test cast and ttworkbench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51"/>
              </a:spcBef>
              <a:buClr>
                <a:srgbClr val="93a2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34"/>
                </a:solidFill>
                <a:latin typeface="Arial"/>
              </a:rPr>
              <a:t>Can be adapted by tool providers also for test automation!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Going through issues and fixing them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Creation of document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Current status (3/4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92934"/>
                </a:solidFill>
                <a:latin typeface="Arial"/>
              </a:rPr>
              <a:t>ATS validated with 4 tool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TTworkbench: compile-time and executio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TestCast: compile-time and executio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IBM: some initial compile-time validatio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MTP: as reports are sent in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292934"/>
                </a:solidFill>
                <a:latin typeface="Arial"/>
              </a:rPr>
              <a:t>ATS Metric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Total number of conformance tests: </a:t>
            </a: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733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Number of positive syntactic conformance tests: </a:t>
            </a: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110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Number of negative syntactic conformance tests: </a:t>
            </a: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34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Number of positive semantic conformance tests: </a:t>
            </a: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335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92934"/>
                </a:solidFill>
                <a:latin typeface="Arial"/>
              </a:rPr>
              <a:t>Number of negative semantic conformance tests: </a:t>
            </a:r>
            <a:r>
              <a:rPr b="1" lang="de-DE" sz="1900" spc="-1" strike="noStrike">
                <a:solidFill>
                  <a:srgbClr val="292934"/>
                </a:solidFill>
                <a:latin typeface="Arial"/>
              </a:rPr>
              <a:t>254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tal number of clauses (incl. subsection and subsubsections) in the TTCN-3 standard: </a:t>
            </a:r>
            <a:r>
              <a:rPr b="1" lang="en-US" sz="1900" spc="-1" strike="noStrike">
                <a:solidFill>
                  <a:srgbClr val="292934"/>
                </a:solidFill>
                <a:latin typeface="Arial"/>
              </a:rPr>
              <a:t>342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Total number of clauses (at least partially) covered: </a:t>
            </a:r>
            <a:r>
              <a:rPr b="1" lang="en-US" sz="1900" spc="-1" strike="noStrike">
                <a:solidFill>
                  <a:srgbClr val="292934"/>
                </a:solidFill>
                <a:latin typeface="Arial"/>
              </a:rPr>
              <a:t>110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Current status (4/4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Document metric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TSS&amp;TP document: </a:t>
            </a:r>
            <a:r>
              <a:rPr b="1" lang="de-DE" sz="2000" spc="-1" strike="noStrike">
                <a:solidFill>
                  <a:srgbClr val="292934"/>
                </a:solidFill>
                <a:latin typeface="Arial"/>
              </a:rPr>
              <a:t>~143 </a:t>
            </a: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page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Work still ongoing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Wrap-up work to be don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Document fine-tun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About ~50 test cases left to validated </a:t>
            </a:r>
            <a:br>
              <a:rPr sz="2000"/>
            </a:b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(to be finished this week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Quite a lot of time used outside of our contract to ensure the best possible result! Too little time!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All Mantis issues reported for the conformance test suite are closed/fix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1 open issue with STF393 clarification pending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Issues reported to STF393 (1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A number of issues have been reported to STF393 as a result of test case development and mailing list discussion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Test cases with pending clarifications have been excluded from the delivered ATS (moved to a special on-hold directory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Total of 9 CRs writte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3:58:16Z</dcterms:created>
  <dc:creator>bzeiss</dc:creator>
  <dc:description/>
  <dc:language>en-US</dc:language>
  <cp:lastModifiedBy>bzeiss</cp:lastModifiedBy>
  <dcterms:modified xsi:type="dcterms:W3CDTF">2010-12-09T15:06:55Z</dcterms:modified>
  <cp:revision>65</cp:revision>
  <dc:subject/>
  <dc:title>TTCN-3 Conformance Test Suite STF 409 Status Report</dc:title>
</cp:coreProperties>
</file>